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390A-A15D-4001-B583-4B9DB8201B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03DB-1965-45AC-87AE-ECBB5B34B1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5E8-FCB2-466C-BC76-EB583A38B4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1901-E0DC-4B2C-BED1-841124A6A4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29C9-2C81-4E0A-9001-214F71D947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427B-B5F1-478F-AAD1-0FF6B2F7D9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50AE-AA45-4EFA-AFA6-DF8B4DC01D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722C-671F-4460-95B7-4952C44A95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6C93-D61E-4C25-BDB0-B633C4738B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104A-7FAE-402C-8628-89768DD3A8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178-6798-4E83-80FE-590DBB893C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1DB5-ED54-4D24-9B4F-9A7656F9C6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DADD-8CF1-4FBB-A3C2-C7591E5E9F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22BA-ED0B-4A58-A47A-6F0CBA0ABE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A525-D660-490D-B40D-843072D4D8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F0FF-3B91-4259-87AE-AF31D664FB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826B-2F87-4909-92E7-391BAE27E0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A21-AF8B-4C92-8B7F-B464446E79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1F51-2005-41CC-BF44-935CBFBB0F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9F9B-B7AD-4E36-8F6F-85D28DBE27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3CBA-DA83-49A9-A646-602DC1203B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3825-F4FA-4384-9E3A-3BB4E58425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06C2-DF22-4BFA-9D5B-CB523B1DD4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A3FE-95E4-4FB2-B4D4-0B0B7B6422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82E-DD29-4EC7-99FD-D3EE7253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B76-8062-46A5-BE0E-FBE0EC53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C48-03A1-4CCA-B8DC-9B7F756F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6B2-83E2-4263-B134-803D4529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EEB1-9AB1-445B-9EE5-16DBC6F7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BBB5-F6B3-4BD4-9D08-E8D841C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30D7-F69A-4ECA-A9DC-92D3D62B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884E-9F5D-49BF-BD22-74EED4A2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5C20-4D40-4001-B65D-8396176D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C0A5-165A-475E-848E-5A38AF28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011B-A2C2-4A5D-903D-828FB8C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DCE-515D-4490-9808-D058C5A9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8BFC-EDC3-4CED-91CF-40B0E66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F7D2-6010-431B-89D6-695847B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AD64-96ED-4037-B3B1-9F1DB39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8A6F-AD15-4646-B39B-1310ED0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600-6212-441B-B4F9-8A76AF05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EE8-D32A-4272-9902-F5F0D744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641-DB3D-45CC-A6D4-BDECC319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97F-F883-41BA-A82F-3767BE65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974-198C-4630-AA26-F042FC96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E45-7D7D-4802-9790-0065D71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243-FF38-4650-8123-A5B30C02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EBF-7ACD-448C-A9C1-DE8C6C7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31B2-7D7B-4209-8713-1FE38ECF9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A98A-186A-4778-ABB7-B3AFF90D5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çon A – Bon appét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Qu</a:t>
            </a:r>
            <a:r>
              <a:rPr b="0" i="1" lang="ja-JP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st-ce qui coûte…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1,44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pommes golden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0,75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tomat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Ques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ahoma"/>
              </a:rPr>
              <a:t>Comment est-ce qu’on écrit les prix en français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ahoma"/>
              </a:rPr>
              <a:t>ex. 1,56 </a:t>
            </a:r>
            <a:r>
              <a:rPr b="0" lang="fr-FR" sz="6000" spc="-1" strike="noStrike">
                <a:solidFill>
                  <a:srgbClr val="000000"/>
                </a:solidFill>
                <a:latin typeface="Tahoma"/>
                <a:ea typeface="Tahoma"/>
              </a:rPr>
              <a:t>€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Ques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Quelles quantités est-ce qu’on utilise pour vendre ces fruits et légume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en kilogramm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Ques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e veut dire le mot « sachet »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bag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Note Culturel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Dans les pays francophones, on utilise le systèm métriqu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le kilogramme (weigh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le litre</a:t>
            </a: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(liquid volum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un kilo = 2 livres (pound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1 livre = 500 gram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Pratiquons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  <a:ea typeface="Tahoma"/>
              </a:rPr>
              <a:t>Changez les poids suivants des kilos aux livre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3 kilos = ________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6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4,5 kilos = ________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9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12 kilos = ________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24 livr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Sortez les tableaux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Utilisant la publicité de E. Leclerc, écrivez le fruit et le légume qui coûte le montant donné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30 livres = _______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15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15 livres = _______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7,5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5,5 livres = _______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2,75 kilo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23 livres = _______ gramm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  <a:ea typeface="Tahoma"/>
              </a:rPr>
              <a:t>11.500 gramm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0,90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banan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1,50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orang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6,65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anana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3,26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choux-fleur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2,30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carott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2,87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raisin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ahoma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Qu’est-ce qui coûte 1,05</a:t>
            </a:r>
            <a:r>
              <a:rPr b="0" lang="fr-FR" sz="6600" spc="-1" strike="noStrike">
                <a:solidFill>
                  <a:srgbClr val="000000"/>
                </a:solidFill>
                <a:latin typeface="Tahoma"/>
                <a:ea typeface="Tahoma"/>
              </a:rPr>
              <a:t>€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ahoma"/>
              </a:rPr>
              <a:t>les endives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11-26T11:46:01Z</dcterms:modified>
  <cp:revision>88</cp:revision>
  <dc:subject/>
  <dc:title>Allez, viens! – Level 2</dc:title>
</cp:coreProperties>
</file>